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830-802C-46DD-AD2A-92C28520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B35-FA6B-446C-A31C-5332B6C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FEA-3AB1-4B6C-B9BF-A17C2CE5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6C5-8C8D-469A-ADED-B971946A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E24-BC1E-49E6-8512-2260F7B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348-9964-485C-AE80-4D3B93C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69E-7599-43FB-9763-3866EA9F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340-8983-492A-B36B-7FE12EB7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7B0-F54C-4453-A8A6-7B0AB993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593-14C6-49DC-814A-069CC20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BD0-7A6E-4F25-A188-E7348084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023-640A-4F74-90C7-C68CBECC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BF1-6924-4AC4-A827-AD12122DA44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Climate Graph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ng A Climate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mate Gra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very useful in comparing the annual temperature and rainfall of places around the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very easy to plot and re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mple steps below should show you how to draw one and then how to read 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raw the axis of your graph, with the months of the year along the bottom, the amount of rainfall on one axis, and the temperature on the other ax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ot on the rainfall as a bar chart, colour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lu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ot on the temperature as a line graph, colour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ish it off by including the follow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otal rainfall for the year (add all the bars togeth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emperature range (the difference between the highest temperature and the lowest on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ame of the place that the graph is f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1:23:58Z</dcterms:created>
  <dc:creator>Dell_02</dc:creator>
  <dc:description/>
  <dc:language>en-US</dc:language>
  <cp:lastModifiedBy>Dell_02</cp:lastModifiedBy>
  <dcterms:modified xsi:type="dcterms:W3CDTF">2011-01-27T21:41:27Z</dcterms:modified>
  <cp:revision>2</cp:revision>
  <dc:subject/>
  <dc:title>Climate Graphs</dc:title>
</cp:coreProperties>
</file>